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8ED5-004C-47E0-8276-A73E2C97D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0037-56CC-4F5D-9729-B2801E97E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B74-1B1E-4DE2-AFEF-AB54B500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51F4-19A5-47C6-80B0-D4755A85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944-9E5A-47E9-B006-F9033F85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BB8-6D6B-4A48-A135-FAC90380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DEB-1DDC-4C2C-AD7B-791C0A64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C98-169B-477C-82DE-AD96F6F0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BCF-53E5-4529-BAD6-18441194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735-3F15-4425-947F-2FF53800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8AB-5900-459C-9477-3F95962D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A94-F749-4FD5-8ECB-0338A471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4C7-7A2E-47C6-A9DB-346EFF56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190-C000-4322-BB8E-595D4F69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3630-2398-401F-AE31-3F05B6265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5 Folk s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cus on dail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not become part of popula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e inseparable from the acoustic gu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ve so far been of little cultural signific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re often difficult to interp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5 Folk s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Focus on dail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not become part of popula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e inseparable from the acoustic gu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ve so far been of little cultural signific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re often difficult to interp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6 Hog production is low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6 Hog production is low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04_06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7 Wine production typically requires all of the following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ll-drained so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pportive cus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oximity to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ool su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ol w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7 Wine production typically requires all of the following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ll-drained so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pportive cus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oximity to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ool su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ol w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4_13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8 In America, tequila is consumed primarily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8 In America, tequila is consumed primarily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1 An act repeatedly performed by an individual is a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ltural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b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ust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rai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nnoy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4_12r"/>
          <p:cNvPicPr/>
          <p:nvPr/>
        </p:nvPicPr>
        <p:blipFill>
          <a:blip r:embed="rId1"/>
          <a:stretch/>
        </p:blipFill>
        <p:spPr>
          <a:xfrm>
            <a:off x="1219320" y="762120"/>
            <a:ext cx="6781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9 Internet use is least prevalen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entral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9 Internet use is least prevalen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entral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4_15"/>
          <p:cNvPicPr/>
          <p:nvPr/>
        </p:nvPicPr>
        <p:blipFill>
          <a:blip r:embed="rId1"/>
          <a:stretch/>
        </p:blipFill>
        <p:spPr>
          <a:xfrm>
            <a:off x="2209680" y="457200"/>
            <a:ext cx="4800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10 Similar restaurants, gas stations, and stores throughout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llustrate how popular culture can create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how how folk culture can diff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e a prime example of glob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crease cultural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10 Similar restaurants, gas stations, and stores throughout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Illustrate how popular culture can cre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uniform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how how folk culture can diff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e a prime example of glob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crease cultural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1 An act repeatedly performed by an individual is a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ltural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Hab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ust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rai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nnoy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2 Popular culture is prac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nly where folk culture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y large heterogeneou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y individual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Only in the more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t specific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2 Popular culture is prac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nly where folk culture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By large heterogeneou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y individual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Only in the more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t specific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3 Folk culture is most likely to sprea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ierarchical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tagious dif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imulus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opycat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location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3 Folk culture is most likely to sprea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ierarchical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tagious dif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imulus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opycat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Relocation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4 Modern communications methods have _________ of social cus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lowed the disse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d little effect on the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creased the global uniform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ed to the 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4 Modern communications methods have _________ of social cus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lowed the disse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d little effect on the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Increased the global uniform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ed to the 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hartma</cp:lastModifiedBy>
  <dcterms:modified xsi:type="dcterms:W3CDTF">2012-05-10T22:02:55Z</dcterms:modified>
  <cp:revision>82</cp:revision>
  <dc:subject/>
  <dc:title>CRS Chapter 4</dc:title>
</cp:coreProperties>
</file>